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73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95400" y="729720"/>
            <a:ext cx="4867200" cy="365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2D1A-A879-4518-92DC-F4522F315EC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B6CE-5A5F-4D7F-A26A-9B2186D6191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FAFC-0776-4260-B90C-B0EC0845CBB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7B2C-2C33-4836-861A-951EB923733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DEFF-0B6A-4398-9ADC-A5AB42E2C69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7098-AC89-4FA6-BAD3-C4A645728C0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9000" cy="36514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E074-DEFB-47AF-8B89-F1E5690D879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9000" cy="36514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7906-AEA3-4F76-A906-C5D85622A20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BADB-6F1E-481E-BD28-A6524F3A2A6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0E04-6D15-4B2E-BD61-9460BABFFA5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22DA-8E89-4A17-A5D1-B8892FB4807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9000" cy="36514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625640"/>
            <a:ext cx="50292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BE2C-8B3E-4620-840A-04B0B3D3124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2DEE-F26C-48E7-AD91-B36538E2305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4FFF-26C0-4717-9AA1-9995229B9E8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9C12-A6F3-4381-9205-604B7C3BADB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511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511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511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2362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2362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511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511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511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2362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600200" y="6091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362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511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511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511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u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u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ur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ur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ur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2" name="Picture 7" descr="trans98"/>
          <p:cNvPicPr/>
          <p:nvPr/>
        </p:nvPicPr>
        <p:blipFill>
          <a:blip r:embed="rId2"/>
          <a:stretch/>
        </p:blipFill>
        <p:spPr>
          <a:xfrm>
            <a:off x="228600" y="304920"/>
            <a:ext cx="1012680" cy="175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9900"/>
                </a:solidFill>
                <a:latin typeface="Century"/>
              </a:rPr>
              <a:t>Replicação do DNA</a:t>
            </a:r>
            <a:endParaRPr b="0" lang="en-US" sz="4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573840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9900"/>
                </a:solidFill>
                <a:latin typeface="Century"/>
              </a:rPr>
              <a:t>Edmar Vaz de Andrade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3348000" y="2924280"/>
            <a:ext cx="11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0" y="2214720"/>
            <a:ext cx="9144000" cy="3240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"/>
              </a:rPr>
              <a:t>1-Replicação do DNA e Divisão Celular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Century"/>
              </a:rPr>
              <a:t>2-Replicação Semiconservativa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Century"/>
              </a:rPr>
              <a:t>3-Mecanismo Geral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Century"/>
              </a:rPr>
              <a:t>4-Elongaçã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Century"/>
              </a:rPr>
              <a:t>5-Fidelidade da Replicaçã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Century"/>
              </a:rPr>
              <a:t>6-DNA polimerase RNA dependent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990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entury"/>
              </a:rPr>
              <a:t>DNA polimerase</a:t>
            </a:r>
            <a:endParaRPr b="0" lang="en-US" sz="4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722320"/>
            <a:ext cx="7772400" cy="32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entury"/>
              </a:rPr>
              <a:t>Taxa de erro em </a:t>
            </a:r>
            <a:r>
              <a:rPr b="0" i="1" lang="pt-BR" sz="3200" spc="-1" strike="noStrike">
                <a:solidFill>
                  <a:srgbClr val="ffffff"/>
                </a:solidFill>
                <a:latin typeface="Century"/>
              </a:rPr>
              <a:t>E. coli</a:t>
            </a:r>
            <a:r>
              <a:rPr b="0" lang="pt-BR" sz="3200" spc="-1" strike="noStrike">
                <a:solidFill>
                  <a:srgbClr val="ffffff"/>
                </a:solidFill>
                <a:latin typeface="Century"/>
              </a:rPr>
              <a:t>: um erro a cada 10</a:t>
            </a:r>
            <a:r>
              <a:rPr b="0" lang="pt-BR" sz="3200" spc="-1" strike="noStrike" baseline="30000">
                <a:solidFill>
                  <a:srgbClr val="ffffff"/>
                </a:solidFill>
                <a:latin typeface="Century"/>
              </a:rPr>
              <a:t>10</a:t>
            </a:r>
            <a:r>
              <a:rPr b="0" lang="pt-BR" sz="3200" spc="-1" strike="noStrike">
                <a:solidFill>
                  <a:srgbClr val="ffffff"/>
                </a:solidFill>
                <a:latin typeface="Century"/>
              </a:rPr>
              <a:t> nucleotídeos adicionados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entury"/>
              </a:rPr>
              <a:t>Pareamento Watson-Crick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entury"/>
              </a:rPr>
              <a:t>Pontes de hidrogênio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entury"/>
              </a:rPr>
              <a:t>Geometria dos pares corretos (A/T e G/C) compatível com o sítio ativo da enzima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332000" y="189000"/>
            <a:ext cx="540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9900"/>
                </a:solidFill>
                <a:latin typeface="Century"/>
              </a:rPr>
              <a:t>5-Fidelidade da Replicaçã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4932360" y="801720"/>
            <a:ext cx="3809880" cy="5435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395280" y="3921120"/>
            <a:ext cx="446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areamento de acordo com a regra de Watson-Crick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Compatível com o sítio catalítico da DNA polimerase (em azul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332000" y="189000"/>
            <a:ext cx="540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9900"/>
                </a:solidFill>
                <a:latin typeface="Century"/>
              </a:rPr>
              <a:t>5-Fidelidade da Replicaçã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6286680" y="189000"/>
            <a:ext cx="2741400" cy="6669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395280" y="2349360"/>
            <a:ext cx="5040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areamentos casuais que não seguem a regra de Watson-Cric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Incompatibilidade espacial com o sítio catalítico enzimático (em azul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1143000" y="189000"/>
            <a:ext cx="540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9900"/>
                </a:solidFill>
                <a:latin typeface="Century"/>
              </a:rPr>
              <a:t>5-Fidelidade da Replicaçã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539640" y="4365720"/>
            <a:ext cx="4176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tividade revisora da DNA polimerase I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tividade exonucleásica 3’-5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1469880" y="162000"/>
            <a:ext cx="621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6-DNA polimerase RNA dependen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206064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entury"/>
              </a:rPr>
              <a:t>Transcriptase Reversa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lvl="1" marL="727920" indent="-280080">
              <a:spcBef>
                <a:spcPts val="601"/>
              </a:spcBef>
              <a:buClr>
                <a:srgbClr val="ccecff"/>
              </a:buClr>
              <a:buFont typeface="Centu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ecff"/>
                </a:solidFill>
                <a:latin typeface="Century"/>
              </a:rPr>
              <a:t>Encontrada em retrovírus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entury"/>
              </a:rPr>
              <a:t>Atividades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lvl="1" marL="727920" indent="-280080">
              <a:spcBef>
                <a:spcPts val="601"/>
              </a:spcBef>
              <a:buClr>
                <a:srgbClr val="ccecff"/>
              </a:buClr>
              <a:buFont typeface="Centu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ecff"/>
                </a:solidFill>
                <a:latin typeface="Century"/>
              </a:rPr>
              <a:t>DNA polimerase 5’-3’ a partir de RNA molde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lvl="1" marL="727920" indent="-280080">
              <a:spcBef>
                <a:spcPts val="601"/>
              </a:spcBef>
              <a:buClr>
                <a:srgbClr val="ccecff"/>
              </a:buClr>
              <a:buFont typeface="Centu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ecff"/>
                </a:solidFill>
                <a:latin typeface="Century"/>
              </a:rPr>
              <a:t>DNA polimerase 5’-3’ a partir de DNA molde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lvl="1" marL="727920" indent="-280080">
              <a:spcBef>
                <a:spcPts val="601"/>
              </a:spcBef>
              <a:buClr>
                <a:srgbClr val="ccecff"/>
              </a:buClr>
              <a:buFont typeface="Centu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ecff"/>
                </a:solidFill>
                <a:latin typeface="Century"/>
              </a:rPr>
              <a:t>RNase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entury"/>
              </a:rPr>
              <a:t>Não possui atividade revisora exonucleásica 3’-5’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lvl="1" marL="727920" indent="-280080">
              <a:spcBef>
                <a:spcPts val="601"/>
              </a:spcBef>
              <a:buClr>
                <a:srgbClr val="ccecff"/>
              </a:buClr>
              <a:buFont typeface="Centu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ecff"/>
                </a:solidFill>
                <a:latin typeface="Century"/>
              </a:rPr>
              <a:t>Taxa de erro alta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1469880" y="162000"/>
            <a:ext cx="621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6-DNA polimerase RNA dependen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2771640" y="1197000"/>
            <a:ext cx="4203720" cy="39114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2987640" y="5373720"/>
            <a:ext cx="360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"/>
              </a:rPr>
              <a:t>Análogo ao dT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Arial"/>
              </a:rPr>
              <a:t>Tóxico para o HIV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48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9900"/>
                </a:solidFill>
                <a:latin typeface="Century"/>
              </a:rPr>
              <a:t>1-Replicação do DNA e Divisão Celular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68360" y="2852640"/>
            <a:ext cx="5616720" cy="13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entury"/>
              </a:rPr>
              <a:t>Formação de cópias idênticas do genoma e distribuição para células filhas durante a divisão celular.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5638680" y="189000"/>
            <a:ext cx="3319560" cy="63133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826920" y="3357720"/>
            <a:ext cx="4465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Cada fita parental serve como molde para uma fita filha complement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 informação da fita molde é preservad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332000" y="189000"/>
            <a:ext cx="4895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9900"/>
                </a:solidFill>
                <a:latin typeface="Century"/>
              </a:rPr>
              <a:t>2-Replicação Semiconservativ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280" y="620640"/>
            <a:ext cx="726444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entury"/>
              </a:rPr>
              <a:t>Participação da enzima DNA polimerase </a:t>
            </a:r>
            <a:r>
              <a:rPr b="0" lang="pt-BR" sz="2800" spc="-1" strike="noStrike">
                <a:solidFill>
                  <a:srgbClr val="ffff00"/>
                </a:solidFill>
                <a:latin typeface="Century"/>
              </a:rPr>
              <a:t>Atividade polimerase 5’- 3’</a:t>
            </a:r>
            <a:br>
              <a:rPr sz="2800"/>
            </a:br>
            <a:r>
              <a:rPr b="0" lang="pt-BR" sz="2800" spc="-1" strike="noStrike">
                <a:solidFill>
                  <a:srgbClr val="ffff00"/>
                </a:solidFill>
                <a:latin typeface="Century"/>
              </a:rPr>
              <a:t>Requer fita molde e Iniciador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332000" y="189000"/>
            <a:ext cx="3744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9900"/>
                </a:solidFill>
                <a:latin typeface="Century"/>
              </a:rPr>
              <a:t>3-Mecanismo Gera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324000" y="2421000"/>
            <a:ext cx="8569080" cy="4392720"/>
            <a:chOff x="324000" y="2421000"/>
            <a:chExt cx="8569080" cy="4392720"/>
          </a:xfrm>
        </p:grpSpPr>
        <p:pic>
          <p:nvPicPr>
            <p:cNvPr id="58" name="Picture 2" descr=""/>
            <p:cNvPicPr/>
            <p:nvPr/>
          </p:nvPicPr>
          <p:blipFill>
            <a:blip r:embed="rId1"/>
            <a:stretch/>
          </p:blipFill>
          <p:spPr>
            <a:xfrm>
              <a:off x="324000" y="2421000"/>
              <a:ext cx="856908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5"/>
            <p:cNvSpPr/>
            <p:nvPr/>
          </p:nvSpPr>
          <p:spPr>
            <a:xfrm>
              <a:off x="539640" y="2565360"/>
              <a:ext cx="2303640" cy="100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oxinucleosídeo 5’-trifosfato incorporado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6"/>
            <p:cNvSpPr/>
            <p:nvPr/>
          </p:nvSpPr>
          <p:spPr>
            <a:xfrm>
              <a:off x="395280" y="4437000"/>
              <a:ext cx="12240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iciador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rime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Text Box 7"/>
            <p:cNvSpPr/>
            <p:nvPr/>
          </p:nvSpPr>
          <p:spPr>
            <a:xfrm>
              <a:off x="395280" y="5661000"/>
              <a:ext cx="1224000" cy="100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ita de DNA mold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Text Box 8"/>
            <p:cNvSpPr/>
            <p:nvPr/>
          </p:nvSpPr>
          <p:spPr>
            <a:xfrm>
              <a:off x="1619280" y="6381720"/>
              <a:ext cx="18730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oxiribos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826920" y="4724280"/>
            <a:ext cx="6913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egião de Origem de replicação em </a:t>
            </a:r>
            <a:r>
              <a:rPr b="1" i="1" lang="pt-BR" sz="2400" spc="-1" strike="noStrike">
                <a:solidFill>
                  <a:srgbClr val="ffff00"/>
                </a:solidFill>
                <a:latin typeface="Arial"/>
              </a:rPr>
              <a:t>Eschericia coli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com repetições consensuais (conservada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245 pares de ba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835280" y="1454040"/>
            <a:ext cx="56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replicação se inicia em regiões específicas do cromossom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1332000" y="115920"/>
            <a:ext cx="374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9900"/>
                </a:solidFill>
                <a:latin typeface="Century"/>
              </a:rPr>
              <a:t>3-Mecanismo Gera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11"/>
          <p:cNvGrpSpPr/>
          <p:nvPr/>
        </p:nvGrpSpPr>
        <p:grpSpPr>
          <a:xfrm>
            <a:off x="611280" y="2781360"/>
            <a:ext cx="8028000" cy="1422360"/>
            <a:chOff x="611280" y="2781360"/>
            <a:chExt cx="8028000" cy="1422360"/>
          </a:xfrm>
        </p:grpSpPr>
        <p:pic>
          <p:nvPicPr>
            <p:cNvPr id="67" name="Picture 2" descr=""/>
            <p:cNvPicPr/>
            <p:nvPr/>
          </p:nvPicPr>
          <p:blipFill>
            <a:blip r:embed="rId1"/>
            <a:stretch/>
          </p:blipFill>
          <p:spPr>
            <a:xfrm>
              <a:off x="611280" y="2781360"/>
              <a:ext cx="8026200" cy="14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7"/>
            <p:cNvSpPr/>
            <p:nvPr/>
          </p:nvSpPr>
          <p:spPr>
            <a:xfrm>
              <a:off x="622440" y="3805200"/>
              <a:ext cx="2160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ATCTNTTNTTTT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8"/>
            <p:cNvSpPr/>
            <p:nvPr/>
          </p:nvSpPr>
          <p:spPr>
            <a:xfrm>
              <a:off x="5508720" y="3782880"/>
              <a:ext cx="2232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TATCCACA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9"/>
            <p:cNvSpPr/>
            <p:nvPr/>
          </p:nvSpPr>
          <p:spPr>
            <a:xfrm>
              <a:off x="2843280" y="2789280"/>
              <a:ext cx="5796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ítios de interação com a proteína Dna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684360" y="2852640"/>
              <a:ext cx="17269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6"/>
          <p:cNvSpPr/>
          <p:nvPr/>
        </p:nvSpPr>
        <p:spPr>
          <a:xfrm>
            <a:off x="3132000" y="5373720"/>
            <a:ext cx="41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Forquilha ou bolha de replicação bidirecion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1332000" y="115920"/>
            <a:ext cx="374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9900"/>
                </a:solidFill>
                <a:latin typeface="Century"/>
              </a:rPr>
              <a:t>3-Mecanismo Gera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15"/>
          <p:cNvGrpSpPr/>
          <p:nvPr/>
        </p:nvGrpSpPr>
        <p:grpSpPr>
          <a:xfrm>
            <a:off x="1692360" y="1125360"/>
            <a:ext cx="6643440" cy="4015080"/>
            <a:chOff x="1692360" y="1125360"/>
            <a:chExt cx="6643440" cy="4015080"/>
          </a:xfrm>
        </p:grpSpPr>
        <p:pic>
          <p:nvPicPr>
            <p:cNvPr id="75" name="Picture 12" descr=""/>
            <p:cNvPicPr/>
            <p:nvPr/>
          </p:nvPicPr>
          <p:blipFill>
            <a:blip r:embed="rId1"/>
            <a:stretch/>
          </p:blipFill>
          <p:spPr>
            <a:xfrm>
              <a:off x="1692360" y="1125360"/>
              <a:ext cx="6643440" cy="401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13"/>
            <p:cNvSpPr/>
            <p:nvPr/>
          </p:nvSpPr>
          <p:spPr>
            <a:xfrm>
              <a:off x="4865760" y="2101680"/>
              <a:ext cx="30240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Desnaturação parcial da dupla fit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14"/>
            <p:cNvSpPr/>
            <p:nvPr/>
          </p:nvSpPr>
          <p:spPr>
            <a:xfrm>
              <a:off x="4959360" y="3573360"/>
              <a:ext cx="316872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Síntese de iniciadores - primase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9"/>
          <p:cNvSpPr/>
          <p:nvPr/>
        </p:nvSpPr>
        <p:spPr>
          <a:xfrm>
            <a:off x="1258920" y="5877000"/>
            <a:ext cx="66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epresentação esquemática do movimento da forquilha de replicaçã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332000" y="189000"/>
            <a:ext cx="3744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9900"/>
                </a:solidFill>
                <a:latin typeface="Century"/>
              </a:rPr>
              <a:t>3-Mecanismo Gera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7" descr="replikat6"/>
          <p:cNvPicPr/>
          <p:nvPr/>
        </p:nvPicPr>
        <p:blipFill>
          <a:blip r:embed="rId1"/>
          <a:stretch/>
        </p:blipFill>
        <p:spPr>
          <a:xfrm>
            <a:off x="6324480" y="333360"/>
            <a:ext cx="2819520" cy="173340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24"/>
          <p:cNvGrpSpPr/>
          <p:nvPr/>
        </p:nvGrpSpPr>
        <p:grpSpPr>
          <a:xfrm>
            <a:off x="1238400" y="1484280"/>
            <a:ext cx="6715080" cy="4430520"/>
            <a:chOff x="1238400" y="1484280"/>
            <a:chExt cx="6715080" cy="4430520"/>
          </a:xfrm>
        </p:grpSpPr>
        <p:grpSp>
          <p:nvGrpSpPr>
            <p:cNvPr id="82" name="Group 22"/>
            <p:cNvGrpSpPr/>
            <p:nvPr/>
          </p:nvGrpSpPr>
          <p:grpSpPr>
            <a:xfrm>
              <a:off x="1238400" y="1484280"/>
              <a:ext cx="6715080" cy="4430520"/>
              <a:chOff x="1238400" y="1484280"/>
              <a:chExt cx="6715080" cy="4430520"/>
            </a:xfrm>
          </p:grpSpPr>
          <p:pic>
            <p:nvPicPr>
              <p:cNvPr id="83" name="Pictu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1238400" y="1484280"/>
                <a:ext cx="6715080" cy="443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Text Box 12"/>
              <p:cNvSpPr/>
              <p:nvPr/>
            </p:nvSpPr>
            <p:spPr>
              <a:xfrm>
                <a:off x="5918400" y="4222440"/>
                <a:ext cx="1871640" cy="100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</a:rPr>
                  <a:t>Fita líder: síntese contínu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Text Box 15"/>
              <p:cNvSpPr/>
              <p:nvPr/>
            </p:nvSpPr>
            <p:spPr>
              <a:xfrm>
                <a:off x="5956560" y="2090520"/>
                <a:ext cx="1944720" cy="91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Fita atrasada: síntese descontínua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Text Box 18"/>
              <p:cNvSpPr/>
              <p:nvPr/>
            </p:nvSpPr>
            <p:spPr>
              <a:xfrm>
                <a:off x="5413680" y="2919240"/>
                <a:ext cx="25225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Fragmento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de Okazaki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Text Box 19"/>
              <p:cNvSpPr/>
              <p:nvPr/>
            </p:nvSpPr>
            <p:spPr>
              <a:xfrm>
                <a:off x="5702400" y="3328920"/>
                <a:ext cx="21607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Iniciador de RNA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Text Box 20"/>
              <p:cNvSpPr/>
              <p:nvPr/>
            </p:nvSpPr>
            <p:spPr>
              <a:xfrm>
                <a:off x="1636920" y="3190680"/>
                <a:ext cx="21607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NA parental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Text Box 21"/>
              <p:cNvSpPr/>
              <p:nvPr/>
            </p:nvSpPr>
            <p:spPr>
              <a:xfrm>
                <a:off x="1525680" y="4267080"/>
                <a:ext cx="2592720" cy="91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Direção do movimento da forquilha de replicação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Text Box 23"/>
            <p:cNvSpPr/>
            <p:nvPr/>
          </p:nvSpPr>
          <p:spPr>
            <a:xfrm>
              <a:off x="4357800" y="3571560"/>
              <a:ext cx="181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DNA recém-sintetizado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2411280" y="503280"/>
            <a:ext cx="6732720" cy="63183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8"/>
          <p:cNvSpPr/>
          <p:nvPr/>
        </p:nvSpPr>
        <p:spPr>
          <a:xfrm>
            <a:off x="1193760" y="-27000"/>
            <a:ext cx="46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9900"/>
                </a:solidFill>
                <a:latin typeface="Century"/>
              </a:rPr>
              <a:t>4-Elongaçã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-108000" y="4684680"/>
            <a:ext cx="244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epresentação esquemática da etapa de elongação da replicação em </a:t>
            </a: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87600" y="768240"/>
            <a:ext cx="3149640" cy="4969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4930920" y="2073240"/>
            <a:ext cx="4178160" cy="36640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5076720" y="69228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Ligação dos fragmentos de Okazaki: atividade da DNA lig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332000" y="189000"/>
            <a:ext cx="460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9900"/>
                </a:solidFill>
                <a:latin typeface="Century"/>
              </a:rPr>
              <a:t>4-Elongaçã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971640" y="5734080"/>
            <a:ext cx="82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ubstituição do RNA iniciador por DNA (DNA polimerase I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tividade exonucleásica 5’-3’ e polimerásica 5’-3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4:25:10Z</dcterms:created>
  <dc:creator>Spartaco</dc:creator>
  <dc:description/>
  <dc:language>en-US</dc:language>
  <cp:lastModifiedBy>usuario</cp:lastModifiedBy>
  <dcterms:modified xsi:type="dcterms:W3CDTF">2010-04-28T22:44:52Z</dcterms:modified>
  <cp:revision>147</cp:revision>
  <dc:subject/>
  <dc:title>Apresentação do PowerPoint</dc:title>
</cp:coreProperties>
</file>